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4199-AC8E-43BF-A53D-0F79E5F49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DA82-0C14-4951-8CDF-C3C0A71C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5FD7-C257-4AF1-AF65-375E6297E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FF54-5671-4B3E-8B9E-853C9DAA5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9243-FCAE-4B70-A074-7064F6F0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5276-8B25-441E-9A07-E938E6B8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BD0C-F314-4FC7-ADD9-9D55746F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1AEC-2B41-4C08-B3A8-2D206C13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5057-A569-4A3B-9E5D-63D5E67B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B90D-ACE5-4C2C-A132-E2670266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1FBF-A591-4275-89E3-D8F95527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8CC2-36E9-44F3-87A6-04CD55CB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F172-E57C-41BE-9172-8C25121F9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76560" y="533160"/>
            <a:ext cx="426708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Азия: природное и культурное историческое наследие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(часть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714640" y="5333760"/>
            <a:ext cx="3429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ОУ «Гимназия №2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. Белгорода – Федорова О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482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трана двух миров: в то время как коренное население Калимантана (Борнео) охотится с помощью трубок, горожане столицы Куала-Лумпур ушли в виртуальную реальность. Кроме принадлежности к государству Малайзия ничего общего между ними н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962520" y="4251240"/>
            <a:ext cx="5181480" cy="2606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57800" cy="2716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81120" y="274320"/>
            <a:ext cx="3962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ещерах Бату в Малайзии празднуется главный индуистский праздник – Тайпусам. Тысячи верующих поднимаются по 272 ступеням  к пещерам, чтбы проверить там силу своей веры в состоянии транса, когда их пронзают игл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4038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ала-Лумпур – небоскребы-близнецы Петрона взметнулись на 4502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114800" y="4278240"/>
            <a:ext cx="5029200" cy="25797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4647960" cy="3714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91320" cy="2859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048120" y="3699000"/>
            <a:ext cx="6095880" cy="3159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150920"/>
            <a:ext cx="9144000" cy="4557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3528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981080" y="4000680"/>
            <a:ext cx="7162920" cy="2857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43400" cy="3165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37940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9621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наменитые «шоколадные холмы» на острове Бохоль. Здесь расположено 1268 известняковых холмов высотой около 4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4495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ипичная филиппинская лодка в морском заповеднике Эль-Нидо, бухты которого глубоко вдаются в холмистый бер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3520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формационн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ьшой атлас мира «Глобус», Азия/ Пер. с нем. – М: ООО «ТД «Издательство Мир книги», 2006. – 80 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ьетнам: во дворец Даи Нои в городе Хюэ ведут массивные вор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дни Камбоджи: рабочие слоны на реке Сиемреап в окрестностях Ангк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3519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53341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д пагодой в Шокчанге (Вьетнам) работают женщины. Шляпа защищает плечи от палящего сол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2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бширные рисовые поля раскинулись на наносных землях большой дельты Меконга площадью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0 000  кв. км. Здесь выращивают рис, который ежегодно дает несколько урожа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480060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рода отвоевывает свою территорию обратно: мощные корни деревьев обвивают каменную кладку в городе храмов Ангкор-В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056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ингапур остается символом успеха стран – «азиатских тигр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120680"/>
            <a:ext cx="9144000" cy="5737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раблестроение и производство автомобилей имеют особое значение для экспорта Сингап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366920"/>
            <a:ext cx="9144000" cy="2940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ис – продукт питания номер один в Юго-Восточной Азии, его возделывают, как и прежде, очень трудоемко: растения сажают вруч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67280" cy="3021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886200" y="4105440"/>
            <a:ext cx="5257800" cy="2752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lad</cp:lastModifiedBy>
  <dcterms:modified xsi:type="dcterms:W3CDTF">2011-03-04T20:32:2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